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18A-C5A6-41C5-AE37-4977DFAF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DBF-E971-4CEC-A64A-75F13B44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B34-6884-4817-8516-97CC6043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D52-947A-4C09-B2A5-D182A0FE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FF5F-0B36-426A-AFDE-134F52CD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B2BA-AE0C-43E1-875E-BB121E18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ABE2-66B0-4B74-A539-BBCD6045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295F-EE23-4D75-8509-F4A93401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3DA8-B4EE-407E-AB41-722D856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1C6E-4560-4722-BE91-D150DE32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711B-4113-4AFE-92E3-6D343B5C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2D2-E381-47FD-9014-2A0F698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8799-8784-450E-A2B4-6F4C5B52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3689-C4D2-48DA-B67A-D28AF3E4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A294-5EFD-448E-89AB-5571B8B5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CF16-0EC0-49A5-8C57-BA9AF5E6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BFDF-F165-4D23-BEB7-0A7A294D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876-DE14-49B0-8E43-118F808C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D26-03FB-4BF7-B1BE-FC651BF9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2EF-54B6-4397-9BD4-5CD1A0F1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1E2-6066-49AF-BC03-66EC1188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C03-25FD-4BC2-BABD-A69C0E0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A02-A439-4E1D-A19B-3B348C53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030-3E98-45F6-AFF5-389CC34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F5F0-35E8-4B89-9EE9-6E2122ED76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D93F-5F4B-4F7C-944B-0B0DA05B2B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Give Us A King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rter 5, Lesson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 Sam.18-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ges 90-9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ttle Between David and Absalom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18:1-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6476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sent out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organized his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wanted to go to battle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nted Absalom sp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warriors preva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slaughter (20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st devoured even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ttle Between David and Absalom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9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got caught in a tree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ab told of the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and his men kill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returned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bur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867280" y="44197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on of Absalom’s De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666520" y="3047760"/>
            <a:ext cx="312444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31080" y="380880"/>
            <a:ext cx="1998360" cy="2667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943600" y="3200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ditional Monument of Absalom’s burial place in 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vid’s Mourning Affects Other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18:19-33 – 19:1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is told of the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imaaz and Cushi were messe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imaaz re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hi re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mourned for Absa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rebuked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congratulated the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were conf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vid Returns To Jerusalem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19:11-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chastised the tribe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sa appointed captain; removed Jo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n of Judah encouraged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started his journey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mei repented and granted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ba greeted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vid Returns To Jerusalem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19:24-4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phibosheth met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d David why he did not follow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ry conflicted with Ziba’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favors Barzill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zillai was 80 years 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ecided to stay in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son, Chimham went with Dav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srael was jealous of Judah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1:26:23Z</dcterms:created>
  <dc:creator>Terry W. Benton</dc:creator>
  <dc:description/>
  <dc:language>en-US</dc:language>
  <cp:lastModifiedBy>Frank D Vines</cp:lastModifiedBy>
  <dcterms:modified xsi:type="dcterms:W3CDTF">2005-07-18T12:38:42Z</dcterms:modified>
  <cp:revision>16</cp:revision>
  <dc:subject/>
  <dc:title>Give Us A King</dc:title>
</cp:coreProperties>
</file>